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entury Schoolbook"/>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376833E-CC49-4F8D-A62D-61617747B1FF}" type="datetime">
              <a:rPr b="0" lang="en-US" sz="1200" spc="-1" strike="noStrike">
                <a:solidFill>
                  <a:srgbClr val="000000"/>
                </a:solidFill>
                <a:latin typeface="Century Schoolbook"/>
              </a:rPr>
              <a:t>07/30/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82972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829720"/>
            <a:ext cx="29718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entury Schoolbook"/>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978553D-61F8-46C3-B68E-4B6CFDAFAD76}" type="slidenum">
              <a:rPr b="0" lang="en-US" sz="1200" spc="-1" strike="noStrike">
                <a:solidFill>
                  <a:srgbClr val="000000"/>
                </a:solidFill>
                <a:latin typeface="Century School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04840" y="696960"/>
            <a:ext cx="4648320" cy="3486240"/>
          </a:xfrm>
          <a:prstGeom prst="rect">
            <a:avLst/>
          </a:prstGeom>
          <a:ln w="0">
            <a:noFill/>
          </a:ln>
        </p:spPr>
      </p:sp>
      <p:sp>
        <p:nvSpPr>
          <p:cNvPr id="392"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get an inventory print out two ways. Click on the Back office tab and then inventory to the left or click the Reports tab and the library reports to the lef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you click on back office and inventory, click on “view in-progress inventory and completed inventory”. By default the screen will automatically pull up in progress inventory.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04840" y="696960"/>
            <a:ext cx="4648320" cy="3486240"/>
          </a:xfrm>
          <a:prstGeom prst="rect">
            <a:avLst/>
          </a:prstGeom>
          <a:ln w="0">
            <a:noFill/>
          </a:ln>
        </p:spPr>
      </p:sp>
      <p:sp>
        <p:nvSpPr>
          <p:cNvPr id="39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run a completed inventory report, click the “completed” sub tab next to “in progres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0436B-3005-4C50-9735-3FE9C64F9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6408E-D748-4FC2-828A-80F5DC49D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4565D-9604-453B-A101-0F281A7AF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7E625-73B6-4380-8285-A0ABAABEC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F5724-353A-4BA7-81F9-ADD5CCA51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2E889-BA3C-42B7-9122-92D5D63A9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C2B8B-2D2F-48A7-9237-3222CCAAB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F1FB8-D6E3-44F9-811C-BC24767F7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A6FB1-1D6A-4D54-B1C1-8298601FE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F0905-4BF3-4D12-8798-9094B6819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F3A0C-C02D-49D4-AE1F-B42BEB6F8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03FB7-3FA4-4F63-8456-1557074CD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ADE76-A76A-4404-A251-F5136AE59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357F6-5E3E-4CBC-80E4-49D8DAD08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27838-B1B1-4D24-ACA0-128B5411E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DA6DF-E11C-4FAE-9651-6CAE1C03A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F19E1-1739-43D4-9D65-3C7A28CD7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6F720FA-DCE4-4F4F-8F99-36A38406CD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AEA27F2-C694-4BA1-A1DB-A3C33EA152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FD67FB-9B21-4B1C-96D6-4CA8AC7BE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3C916BF-249D-4DE5-87D5-7B993B9E2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964589-6B45-4A55-955E-4E27AC13BC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8B261-F5F7-42C2-A1CC-907846E99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7018FE-097C-4573-B6C7-611E4EA52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2B98B6-A2DA-411F-9EF6-742F081CF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E2E41E-F5A4-44F6-BCDE-78956F3397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7D383A-4BCA-426E-93E6-D39B747AD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A81F3D-0736-4966-8870-0209409E95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F3302D-6970-4733-B84B-4731DD4FB6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E43A2BF-EAE7-466C-9FC7-45E0EEF9A5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45F98E-BE27-4133-8755-DD28D881A4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5A7C76-B1C1-4980-945C-7D35538D4A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DB3110-0BAB-4399-9208-67755F2EB8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0CDD8-6F2E-4B4B-AF04-D0E9CA64D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C14FF8-D3FC-4392-BCC8-4995E0EC38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07B2F-96E9-4D4A-87FE-0AD5509F0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B7A6CD-D679-4B31-B2F7-E7CBC85BC5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71E4B-4124-40AD-B287-2C1B781E4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1E871F-340D-4FD0-841B-8C1973CABE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F416B-3A1D-4A85-A2DE-BB302E3AF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9BDE8-61DB-4BF3-BA60-AEBD372AE2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9DC969-B8C7-42F2-BC78-9A0BFFCE84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3FB923-CA60-412C-AEE7-A8E1DD7E85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44A0ABA-2B5E-48D0-953D-080A653035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74697-4A8F-4760-A062-186B03FDC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9D9EFEE-8372-4A06-9401-9D04587BA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E7BC735-6069-4CBE-965E-1DA101C2AD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5C2C6AC-4E73-4674-8DBB-BD0B40ED2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D04F74-2247-44EF-BE1E-82A97E37D8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A9BAED-DFF8-4EAC-8B72-7071F66E5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D1908D-2139-4EDE-A423-3A1937F10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2CB3B2-BE98-4EAD-A896-AC9B9B511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B3EB2A-C5A7-4F13-B4AC-67F8A380C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8B2856-E7AE-42D6-A676-B67DF23D62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7E0D088-FB7F-49DD-85A5-C591366E0F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0A5E7-F408-4874-8CFA-EA77FAC6F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1F536C-BBF0-4560-BFE0-1A3BC90D03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4513F81-89EE-4C4D-AD9C-CEE1C63E0D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B6A7585-CA4E-4DE8-8EC4-08187E152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CEC8292-A19B-412D-BCC2-84D6996E6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24B0F02-7740-4B7A-A6E1-8A896C5358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8A4B628-8512-47CC-87BE-33757566B2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F3D58B2-884B-4161-99EA-8D47D3CB52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2A4CDA-CEB4-4532-AE74-25DF164C6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5F8B869-9180-49F1-AFF6-E893CFB11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9FCBF08-C31C-4C4F-8CB9-5E26686C1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C1DE9-5F6F-40A2-A60B-E2FD2B1E7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B966363-0185-482C-BBC7-9B0D4998BD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498BDC0-A670-4EBE-A5D3-C5C5BDA5E7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437BC44-C0CF-4897-B12B-882201B3C6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0730A13-5A70-43A6-B122-8718C6EAD8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F069692-86CD-4C38-9BC0-6240183F6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4D618A2-374A-4982-8F32-F0D05976FB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BF23B70-4A46-4D58-B2E2-57227B1EFA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EC11A05-B87C-4788-93B6-56861B4FDF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090F174-BF01-4273-92F6-C902B797A5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2EABE5-68A2-4714-B4BB-03DB348680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56400-0F57-4E25-84EF-CB017DDDD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6E129A-E600-425B-9BBF-4B119B8A49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25463EA-E3C3-4F01-B24D-91AB143AD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1505162-D92C-4811-8BE0-5577E17DAA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34055DE-BE33-45EB-8828-63EB41B621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3C48D37-15A0-4E38-B00B-ACD6F2C68A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B6E3-BCDD-46B3-9307-0655A4626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F1D11-B0E8-49D7-8D57-BEF7AFD5E304}"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F728D-ED78-4AD4-9430-53E943F291F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ED7D7-E8B0-4273-8EC1-CC1F21C932C7}"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13CDE-F656-4D63-8C12-B81E2289271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E8ED8-96AE-4728-8F7B-10C7D2076D80}"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00FDD-72F0-4423-A3EE-0F9D911942C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BA694-420E-4396-BBB7-0D0F9A8D92AD}" type="datetime">
              <a:rPr b="0" lang="en-US" sz="1200" spc="-1" strike="noStrike">
                <a:solidFill>
                  <a:srgbClr val="fff39d"/>
                </a:solidFill>
                <a:latin typeface="Century Schoolbook"/>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99E51-DB82-44B5-AB62-F21CFEA3403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3798D-444C-47A0-BD45-54EEE81864D5}"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7A7A8-F53A-4395-99ED-9A2207C8F1E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4FD5C-120D-4D9D-A31B-7B5123A1FD5B}"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539E5-AEFA-49F8-96FF-3C164AF86D4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E6480-414F-4981-8CA5-46F525125B81}"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093EF-0A2C-4C55-BC86-6A11F4CA6E2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Schoolbook"/>
              </a:rPr>
              <a:t>Section Four: Reports and Utilities</a:t>
            </a:r>
            <a:br>
              <a:rPr sz="3000"/>
            </a:br>
            <a:endParaRPr b="0" lang="en-US" sz="3000" spc="-1" strike="noStrike">
              <a:solidFill>
                <a:srgbClr val="575f6d"/>
              </a:solidFill>
              <a:latin typeface="Century Schoolbook"/>
            </a:endParaRPr>
          </a:p>
        </p:txBody>
      </p:sp>
      <p:pic>
        <p:nvPicPr>
          <p:cNvPr id="359" name="Picture 5" descr="banner4_103112"/>
          <p:cNvPicPr/>
          <p:nvPr/>
        </p:nvPicPr>
        <p:blipFill>
          <a:blip r:embed="rId1"/>
          <a:stretch/>
        </p:blipFill>
        <p:spPr>
          <a:xfrm>
            <a:off x="923760" y="1665360"/>
            <a:ext cx="7000920" cy="3552840"/>
          </a:xfrm>
          <a:prstGeom prst="rect">
            <a:avLst/>
          </a:prstGeom>
          <a:ln w="0">
            <a:noFill/>
          </a:ln>
        </p:spPr>
      </p:pic>
      <p:sp>
        <p:nvSpPr>
          <p:cNvPr id="360" name="Text Box 6"/>
          <p:cNvSpPr/>
          <p:nvPr/>
        </p:nvSpPr>
        <p:spPr>
          <a:xfrm>
            <a:off x="3535200" y="5692680"/>
            <a:ext cx="1803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verne Proc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T 747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ing 2013</a:t>
            </a:r>
            <a:endParaRPr b="0" lang="en-US" sz="1800" spc="-1" strike="noStrike">
              <a:solidFill>
                <a:srgbClr val="000000"/>
              </a:solidFill>
              <a:latin typeface="Arial"/>
            </a:endParaRPr>
          </a:p>
        </p:txBody>
      </p:sp>
      <p:sp>
        <p:nvSpPr>
          <p:cNvPr id="361" name="Rectangle 7"/>
          <p:cNvSpPr/>
          <p:nvPr/>
        </p:nvSpPr>
        <p:spPr>
          <a:xfrm>
            <a:off x="4042080" y="4988880"/>
            <a:ext cx="10645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013 Follett </a:t>
            </a:r>
            <a:endParaRPr b="0" lang="en-US" sz="1200" spc="-1" strike="noStrike">
              <a:solidFill>
                <a:srgbClr val="000000"/>
              </a:solidFill>
              <a:latin typeface="Arial"/>
            </a:endParaRPr>
          </a:p>
        </p:txBody>
      </p:sp>
      <p:pic>
        <p:nvPicPr>
          <p:cNvPr id="362" name="Inventory Report_LLP2.pp256-0" descr=""/>
          <p:cNvPicPr/>
          <p:nvPr/>
        </p:nvPicPr>
        <p:blipFill>
          <a:blip r:embed="rId2"/>
          <a:stretch/>
        </p:blipFill>
        <p:spPr>
          <a:xfrm>
            <a:off x="8648640" y="6362640"/>
            <a:ext cx="343080" cy="343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64920" y="-39420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Schoolbook"/>
              </a:rPr>
              <a:t>Inventory Reports</a:t>
            </a:r>
            <a:endParaRPr b="0" lang="en-US" sz="3000" spc="-1" strike="noStrike">
              <a:solidFill>
                <a:srgbClr val="575f6d"/>
              </a:solidFill>
              <a:latin typeface="Century Schoolbook"/>
            </a:endParaRPr>
          </a:p>
        </p:txBody>
      </p:sp>
      <p:pic>
        <p:nvPicPr>
          <p:cNvPr id="364" name="Picture 4" descr=""/>
          <p:cNvPicPr/>
          <p:nvPr/>
        </p:nvPicPr>
        <p:blipFill>
          <a:blip r:embed="rId1"/>
          <a:srcRect l="18367" t="21889" r="6505" b="26126"/>
          <a:stretch/>
        </p:blipFill>
        <p:spPr>
          <a:xfrm>
            <a:off x="665280" y="1095480"/>
            <a:ext cx="7697520" cy="4124160"/>
          </a:xfrm>
          <a:prstGeom prst="rect">
            <a:avLst/>
          </a:prstGeom>
          <a:ln w="0">
            <a:noFill/>
          </a:ln>
        </p:spPr>
      </p:pic>
      <p:pic>
        <p:nvPicPr>
          <p:cNvPr id="365" name="Inventory Report_LLP2.pp257-0" descr=""/>
          <p:cNvPicPr/>
          <p:nvPr/>
        </p:nvPicPr>
        <p:blipFill>
          <a:blip r:embed="rId2"/>
          <a:stretch/>
        </p:blipFill>
        <p:spPr>
          <a:xfrm>
            <a:off x="8648640" y="6362640"/>
            <a:ext cx="343080" cy="34308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 </a:t>
            </a:r>
            <a:r>
              <a:rPr b="0" lang="en-US" sz="4400" spc="-1" strike="noStrike">
                <a:solidFill>
                  <a:srgbClr val="000000"/>
                </a:solidFill>
                <a:latin typeface="Century Schoolbook"/>
              </a:rPr>
              <a:t>Inventory</a:t>
            </a:r>
            <a:endParaRPr b="0" lang="en-US" sz="4400" spc="-1" strike="noStrike">
              <a:solidFill>
                <a:srgbClr val="575f6d"/>
              </a:solidFill>
              <a:latin typeface="Century Schoolbook"/>
            </a:endParaRPr>
          </a:p>
        </p:txBody>
      </p:sp>
      <p:sp>
        <p:nvSpPr>
          <p:cNvPr id="367" name="Rectangle 4"/>
          <p:cNvSpPr/>
          <p:nvPr/>
        </p:nvSpPr>
        <p:spPr>
          <a:xfrm>
            <a:off x="299880" y="1684440"/>
            <a:ext cx="8312400" cy="551124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tiny allows you to generate in-        </a:t>
            </a:r>
            <a:endParaRPr b="0" lang="en-US" sz="36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gress inventory reports and      </a:t>
            </a:r>
            <a:endParaRPr b="0" lang="en-US" sz="36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mpleted inventory reports. </a:t>
            </a:r>
            <a:endParaRPr b="0"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reports show items accounted </a:t>
            </a:r>
            <a:endParaRPr b="0" lang="en-US" sz="36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or in the inventory and identify    </a:t>
            </a:r>
            <a:endParaRPr b="0" lang="en-US" sz="36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issing and misshelved library    </a:t>
            </a:r>
            <a:endParaRPr b="0" lang="en-US" sz="36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aterials. </a:t>
            </a:r>
            <a:endParaRPr b="0" lang="en-US" sz="3600" spc="-1" strike="noStrike">
              <a:solidFill>
                <a:srgbClr val="000000"/>
              </a:solidFill>
              <a:latin typeface="Arial"/>
            </a:endParaRPr>
          </a:p>
        </p:txBody>
      </p:sp>
      <p:pic>
        <p:nvPicPr>
          <p:cNvPr id="368" name="Inventory Report_LLP2.pp260-0" descr=""/>
          <p:cNvPicPr/>
          <p:nvPr/>
        </p:nvPicPr>
        <p:blipFill>
          <a:blip r:embed="rId1"/>
          <a:stretch/>
        </p:blipFill>
        <p:spPr>
          <a:xfrm>
            <a:off x="8648640" y="6362640"/>
            <a:ext cx="343080" cy="34308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3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4" descr=""/>
          <p:cNvPicPr/>
          <p:nvPr/>
        </p:nvPicPr>
        <p:blipFill>
          <a:blip r:embed="rId1"/>
          <a:srcRect l="0" t="15484" r="0" b="41797"/>
          <a:stretch/>
        </p:blipFill>
        <p:spPr>
          <a:xfrm>
            <a:off x="282600" y="353880"/>
            <a:ext cx="5995800" cy="3322800"/>
          </a:xfrm>
          <a:prstGeom prst="rect">
            <a:avLst/>
          </a:prstGeom>
          <a:ln w="0">
            <a:noFill/>
          </a:ln>
        </p:spPr>
      </p:pic>
      <p:sp>
        <p:nvSpPr>
          <p:cNvPr id="370" name="Text Box 5"/>
          <p:cNvSpPr/>
          <p:nvPr/>
        </p:nvSpPr>
        <p:spPr>
          <a:xfrm>
            <a:off x="6278400" y="860400"/>
            <a:ext cx="24829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Office Tab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nventory</a:t>
            </a:r>
            <a:endParaRPr b="0" lang="en-US" sz="1800" spc="-1" strike="noStrike">
              <a:solidFill>
                <a:srgbClr val="000000"/>
              </a:solidFill>
              <a:latin typeface="Arial"/>
            </a:endParaRPr>
          </a:p>
        </p:txBody>
      </p:sp>
      <p:pic>
        <p:nvPicPr>
          <p:cNvPr id="371" name="Picture 6" descr=""/>
          <p:cNvPicPr/>
          <p:nvPr/>
        </p:nvPicPr>
        <p:blipFill>
          <a:blip r:embed="rId2"/>
          <a:srcRect l="0" t="15171" r="33201" b="6466"/>
          <a:stretch/>
        </p:blipFill>
        <p:spPr>
          <a:xfrm>
            <a:off x="2892600" y="3676680"/>
            <a:ext cx="5249520" cy="2990880"/>
          </a:xfrm>
          <a:prstGeom prst="rect">
            <a:avLst/>
          </a:prstGeom>
          <a:ln w="0">
            <a:noFill/>
          </a:ln>
        </p:spPr>
      </p:pic>
      <p:sp>
        <p:nvSpPr>
          <p:cNvPr id="372" name="Text Box 7"/>
          <p:cNvSpPr/>
          <p:nvPr/>
        </p:nvSpPr>
        <p:spPr>
          <a:xfrm>
            <a:off x="282600" y="4284720"/>
            <a:ext cx="28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ports Tab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brary Reports</a:t>
            </a:r>
            <a:endParaRPr b="0" lang="en-US" sz="1800" spc="-1" strike="noStrike">
              <a:solidFill>
                <a:srgbClr val="000000"/>
              </a:solidFill>
              <a:latin typeface="Arial"/>
            </a:endParaRPr>
          </a:p>
        </p:txBody>
      </p:sp>
      <p:sp>
        <p:nvSpPr>
          <p:cNvPr id="373" name="Rectangle 8"/>
          <p:cNvSpPr/>
          <p:nvPr/>
        </p:nvSpPr>
        <p:spPr>
          <a:xfrm>
            <a:off x="1747800" y="719280"/>
            <a:ext cx="453960" cy="282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4" name="Rectangle 9"/>
          <p:cNvSpPr/>
          <p:nvPr/>
        </p:nvSpPr>
        <p:spPr>
          <a:xfrm>
            <a:off x="282600" y="3014640"/>
            <a:ext cx="530280" cy="174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5" name="Rectangle 10"/>
          <p:cNvSpPr/>
          <p:nvPr/>
        </p:nvSpPr>
        <p:spPr>
          <a:xfrm>
            <a:off x="2892600" y="4118040"/>
            <a:ext cx="574560" cy="174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6" name="Rectangle 11"/>
          <p:cNvSpPr/>
          <p:nvPr/>
        </p:nvSpPr>
        <p:spPr>
          <a:xfrm>
            <a:off x="4559400" y="3855960"/>
            <a:ext cx="398520" cy="174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7" name="Rectangle 12"/>
          <p:cNvSpPr/>
          <p:nvPr/>
        </p:nvSpPr>
        <p:spPr>
          <a:xfrm>
            <a:off x="812880" y="1324080"/>
            <a:ext cx="1068480" cy="353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Rectangle 13"/>
          <p:cNvSpPr/>
          <p:nvPr/>
        </p:nvSpPr>
        <p:spPr>
          <a:xfrm>
            <a:off x="3646440" y="5703840"/>
            <a:ext cx="1068480" cy="354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79" name="Inventory Report_LLP2.pp277-0" descr=""/>
          <p:cNvPicPr/>
          <p:nvPr/>
        </p:nvPicPr>
        <p:blipFill>
          <a:blip r:embed="rId3"/>
          <a:stretch/>
        </p:blipFill>
        <p:spPr>
          <a:xfrm>
            <a:off x="8648640" y="6362640"/>
            <a:ext cx="343080" cy="3430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3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088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unning In-Progress Inventory Reports</a:t>
            </a:r>
            <a:endParaRPr b="0" lang="en-US" sz="3000" spc="-1" strike="noStrike">
              <a:solidFill>
                <a:srgbClr val="575f6d"/>
              </a:solidFill>
              <a:latin typeface="Century Schoolbook"/>
            </a:endParaRPr>
          </a:p>
        </p:txBody>
      </p:sp>
      <p:pic>
        <p:nvPicPr>
          <p:cNvPr id="381" name="Picture 3" descr=""/>
          <p:cNvPicPr/>
          <p:nvPr/>
        </p:nvPicPr>
        <p:blipFill>
          <a:blip r:embed="rId1"/>
          <a:srcRect l="0" t="15894" r="0" b="4561"/>
          <a:stretch/>
        </p:blipFill>
        <p:spPr>
          <a:xfrm>
            <a:off x="3008160" y="3759120"/>
            <a:ext cx="4916520" cy="2867040"/>
          </a:xfrm>
          <a:prstGeom prst="rect">
            <a:avLst/>
          </a:prstGeom>
          <a:ln w="0">
            <a:noFill/>
          </a:ln>
        </p:spPr>
      </p:pic>
      <p:pic>
        <p:nvPicPr>
          <p:cNvPr id="382" name="Picture 4" descr=""/>
          <p:cNvPicPr/>
          <p:nvPr/>
        </p:nvPicPr>
        <p:blipFill>
          <a:blip r:embed="rId2"/>
          <a:srcRect l="0" t="15484" r="0" b="41653"/>
          <a:stretch/>
        </p:blipFill>
        <p:spPr>
          <a:xfrm>
            <a:off x="457200" y="1122480"/>
            <a:ext cx="4754520" cy="2636640"/>
          </a:xfrm>
          <a:prstGeom prst="rect">
            <a:avLst/>
          </a:prstGeom>
          <a:ln w="0">
            <a:noFill/>
          </a:ln>
        </p:spPr>
      </p:pic>
      <p:sp>
        <p:nvSpPr>
          <p:cNvPr id="383" name="Rectangle 7"/>
          <p:cNvSpPr/>
          <p:nvPr/>
        </p:nvSpPr>
        <p:spPr>
          <a:xfrm>
            <a:off x="812880" y="1771560"/>
            <a:ext cx="1068480" cy="540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4" name="Line 8"/>
          <p:cNvSpPr/>
          <p:nvPr/>
        </p:nvSpPr>
        <p:spPr>
          <a:xfrm flipH="1">
            <a:off x="7219800" y="2784600"/>
            <a:ext cx="704880" cy="1216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85" name="Inventory Report_LLP2.pp278-0" descr=""/>
          <p:cNvPicPr/>
          <p:nvPr/>
        </p:nvPicPr>
        <p:blipFill>
          <a:blip r:embed="rId3"/>
          <a:stretch/>
        </p:blipFill>
        <p:spPr>
          <a:xfrm>
            <a:off x="8648640" y="6362640"/>
            <a:ext cx="343080" cy="3430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3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36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unning Completed Inventory Reports</a:t>
            </a:r>
            <a:endParaRPr b="0" lang="en-US" sz="3000" spc="-1" strike="noStrike">
              <a:solidFill>
                <a:srgbClr val="575f6d"/>
              </a:solidFill>
              <a:latin typeface="Century Schoolbook"/>
            </a:endParaRPr>
          </a:p>
        </p:txBody>
      </p:sp>
      <p:pic>
        <p:nvPicPr>
          <p:cNvPr id="387" name="Picture 4" descr=""/>
          <p:cNvPicPr/>
          <p:nvPr/>
        </p:nvPicPr>
        <p:blipFill>
          <a:blip r:embed="rId1"/>
          <a:srcRect l="0" t="15894" r="0" b="4561"/>
          <a:stretch/>
        </p:blipFill>
        <p:spPr>
          <a:xfrm>
            <a:off x="457200" y="1143000"/>
            <a:ext cx="7467480" cy="4952880"/>
          </a:xfrm>
          <a:prstGeom prst="rect">
            <a:avLst/>
          </a:prstGeom>
          <a:ln w="0">
            <a:noFill/>
          </a:ln>
        </p:spPr>
      </p:pic>
      <p:sp>
        <p:nvSpPr>
          <p:cNvPr id="388" name="Line 5"/>
          <p:cNvSpPr/>
          <p:nvPr/>
        </p:nvSpPr>
        <p:spPr>
          <a:xfrm flipH="1">
            <a:off x="7496280" y="534960"/>
            <a:ext cx="704880" cy="1216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Rectangle 7"/>
          <p:cNvSpPr/>
          <p:nvPr/>
        </p:nvSpPr>
        <p:spPr>
          <a:xfrm>
            <a:off x="6997680" y="1751040"/>
            <a:ext cx="498600" cy="330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0" name="Inventory Report_LLP2.pp279-0" descr=""/>
          <p:cNvPicPr/>
          <p:nvPr/>
        </p:nvPicPr>
        <p:blipFill>
          <a:blip r:embed="rId2"/>
          <a:stretch/>
        </p:blipFill>
        <p:spPr>
          <a:xfrm>
            <a:off x="8648640" y="6362640"/>
            <a:ext cx="343080" cy="34308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00:50:33Z</dcterms:created>
  <dc:creator>Proctor, Laverne</dc:creator>
  <dc:description/>
  <dc:language>en-US</dc:language>
  <cp:lastModifiedBy>Proctor, Laverne</cp:lastModifiedBy>
  <dcterms:modified xsi:type="dcterms:W3CDTF">2013-03-12T04:36:17Z</dcterms:modified>
  <cp:revision>18</cp:revision>
  <dc:subject/>
  <dc:title>Slide 1</dc:title>
</cp:coreProperties>
</file>